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7533-A10C-4E76-B9D8-F6043CD71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E78D-584A-4B69-A9A0-78E780763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1889-81AA-45AA-994B-0CAB2862D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2860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6584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0272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C1C6-48B8-4FFB-A032-61E306558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26949-E06B-4A85-8B07-33849E212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09898-79DC-43A0-9B10-3EE83B680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ADA68-6F93-4D4E-A0E6-EFC16F4BD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63E51-2AA0-4CC9-BEA5-200891F93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E20FE-219E-4C90-9244-E1EAFA386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83357-EE1F-494A-A0E7-2127D579F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ED99D-175E-487C-AFC9-A0ED71C3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E234-FB08-4D86-95EF-48A073A99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FD9D8-A616-44EC-AD60-1E91C9040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547F9-23DF-4EDB-99AC-D30E63E08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73A8C-5AA7-4E44-B9BE-A135B8BC3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E9EC9-D3CB-4B62-8792-04A87763C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60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6584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0272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15AA8-2E96-441A-B3C3-9AEB295B3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3D1A-9321-427C-A96E-1FBEAAC3A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0014-11DE-4287-9C20-53351F8B7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B4B7-5B05-41E4-A088-619F81550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9189-4389-4435-A09E-60F84504D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E0CF-53D8-452B-8B85-2C2719A3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BF94-6A2C-4154-B716-07BE96A05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483F-A04A-4009-BD5A-54D3D87C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416" b="1937"/>
          <a:stretch/>
        </p:blipFill>
        <p:spPr>
          <a:xfrm>
            <a:off x="0" y="0"/>
            <a:ext cx="9144000" cy="1130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Unicode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5CF3C-3BF2-4FEB-AADF-4550BBB381D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9DD6C-0C07-4224-A387-EEF17A2C52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13040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-31" t="0" r="416" b="1937"/>
          <a:stretch/>
        </p:blipFill>
        <p:spPr>
          <a:xfrm>
            <a:off x="-3240" y="2895480"/>
            <a:ext cx="9147240" cy="113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 Unicode MS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A084D-00A2-42DB-9774-FCB6DC19E37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BC5AA-D26E-4213-806D-FC160CFBD7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402588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743200"/>
            <a:ext cx="9142560" cy="15228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 Unicode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 Unicode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 Unicode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zigma.ktk.pte.hu/index.php?option=com_frontpage&amp;Itemid=1" TargetMode="External"/><Relationship Id="rId2" Type="http://schemas.openxmlformats.org/officeDocument/2006/relationships/hyperlink" Target="http://epa.oszk.hu/html/vgi/kardexlap.phtml?id=1285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epa.oszk.hu/html/vgi/kardexlap.phtml?id=1285" TargetMode="External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kademiai.com/content/119704/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kszemle.hu/tartalom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kszemle.hu/tartalom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www.kszemle.hu/tartalom" TargetMode="Externa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6933960" cy="25146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0066"/>
                </a:solidFill>
                <a:latin typeface="Arial Unicode MS"/>
              </a:rPr>
              <a:t>SZAKMAI FOLYÓIRATOK</a:t>
            </a:r>
            <a:endParaRPr b="0" lang="en-US" sz="4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E98B0-462E-402F-BFF2-908C8488CE0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A19372C1-88F5-4A3D-A7CE-1FADAC38333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59787"/>
                </a:solidFill>
                <a:latin typeface="Arial Unicode MS"/>
              </a:rPr>
              <a:t>SZIGMA</a:t>
            </a:r>
            <a:r>
              <a:rPr b="1" lang="en-US" sz="3600" spc="-1" strike="noStrike">
                <a:solidFill>
                  <a:srgbClr val="006666"/>
                </a:solidFill>
                <a:latin typeface="Arial Unicode MS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981080" y="1447560"/>
            <a:ext cx="6934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b48f"/>
                </a:solidFill>
                <a:latin typeface="Arial Unicode MS"/>
              </a:rPr>
              <a:t>Közreadó: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 PTE Közgazdaságtudományi Kar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b48f"/>
                </a:solidFill>
                <a:latin typeface="Arial Unicode MS"/>
              </a:rPr>
              <a:t>A folyóirat  profilja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közgazdaságtani és vállalat-gazdaságtani folyamatok törvényszerűségei és e jelenségek közötti összefüggések 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kvantitatív módszereket is alkalmazó, gazdaságtudományi kutatások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b48f"/>
                </a:solidFill>
                <a:latin typeface="Arial Unicode MS"/>
              </a:rPr>
              <a:t>Nyelv: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 magyar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b48f"/>
                </a:solidFill>
                <a:latin typeface="Arial Unicode MS"/>
              </a:rPr>
              <a:t>Alapítás éve: 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1970. (évente 4 szám)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b48f"/>
                </a:solidFill>
                <a:latin typeface="Arial Unicode MS"/>
              </a:rPr>
              <a:t>Online elérhetőség: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 Unicode MS"/>
                <a:hlinkClick r:id="rId1"/>
              </a:rPr>
              <a:t>http://www.szigma.ktk.pte.hu/index.php?option=com_frontpage&amp;Itemid=1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113" name="" descr="A h�l�zatos verzi� megnyit�sa &#13;Open the online versi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0880" y="762120"/>
            <a:ext cx="1424160" cy="17524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A h�l�zatos verzi� megnyit�sa &#13;Open the online version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0"/>
            <a:ext cx="1238400" cy="15238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A h�l�zatos verzi� megnyit�sa &#13;Open the online version"/>
          <p:cNvPicPr/>
          <p:nvPr/>
        </p:nvPicPr>
        <p:blipFill>
          <a:blip r:embed="rId6"/>
          <a:stretch/>
        </p:blipFill>
        <p:spPr>
          <a:xfrm>
            <a:off x="533520" y="2743200"/>
            <a:ext cx="1423800" cy="17524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A h�l�zatos verzi� megnyit�sa &#13;Open the online version"/>
          <p:cNvPicPr/>
          <p:nvPr/>
        </p:nvPicPr>
        <p:blipFill>
          <a:blip r:embed="rId7"/>
          <a:stretch/>
        </p:blipFill>
        <p:spPr>
          <a:xfrm>
            <a:off x="0" y="3657600"/>
            <a:ext cx="1424160" cy="17524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A h�l�zatos verzi� megnyit�sa &#13;Open the online version"/>
          <p:cNvPicPr/>
          <p:nvPr/>
        </p:nvPicPr>
        <p:blipFill>
          <a:blip r:embed="rId8"/>
          <a:stretch/>
        </p:blipFill>
        <p:spPr>
          <a:xfrm>
            <a:off x="457200" y="4876920"/>
            <a:ext cx="1424160" cy="1752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2CBA-3D70-46D2-82E1-CA56B080780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A93200-2620-456A-B45B-21F57EE6DA3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 Unicode MS"/>
              </a:rPr>
              <a:t>1. MAGYAR KIADÁSÚ SZAKMAI FOLYÓIRATOK</a:t>
            </a:r>
            <a:endParaRPr b="0" lang="en-US" sz="3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F467F-22D7-437D-A444-2A5C3DB3927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1C1A0C29-B538-4FA7-9DB5-771C06B59DD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28440" y="-3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b48f"/>
                </a:solidFill>
                <a:latin typeface="Arial Unicode MS"/>
              </a:rPr>
              <a:t>ACTA OECONOMICA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14600" y="1752480"/>
            <a:ext cx="64008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b48f"/>
                </a:solidFill>
                <a:latin typeface="Arial Unicode MS"/>
              </a:rPr>
              <a:t>Közreadó: </a:t>
            </a:r>
            <a:r>
              <a:rPr b="1" lang="hu-HU" sz="1800" spc="-1" strike="noStrike">
                <a:solidFill>
                  <a:srgbClr val="ffffff"/>
                </a:solidFill>
                <a:latin typeface="Arial Unicode MS"/>
              </a:rPr>
              <a:t>MTAK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b48f"/>
                </a:solidFill>
                <a:latin typeface="Arial Unicode MS"/>
              </a:rPr>
              <a:t>A folyóirat profilja:</a:t>
            </a:r>
            <a:r>
              <a:rPr b="1" lang="hu-HU" sz="1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 Unicode MS"/>
              </a:rPr>
              <a:t>a közép-európai és magyarországi gazdaságfejlődés, 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 Unicode MS"/>
              </a:rPr>
              <a:t>az átalakulás folyamatának elméleti és általános kérdései, 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 Unicode MS"/>
              </a:rPr>
              <a:t>gazdaságpolitika, 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 Unicode MS"/>
              </a:rPr>
              <a:t>ökonometria és matematikai gazdaságtan, 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 Unicode MS"/>
              </a:rPr>
              <a:t>világgazdaságtan, 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 Unicode MS"/>
              </a:rPr>
              <a:t>európai integráció, 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 Unicode MS"/>
              </a:rPr>
              <a:t>munkagazdaságtan, 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 Unicode MS"/>
              </a:rPr>
              <a:t>ipargazdaságtan és iparfejlődés, 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 Unicode MS"/>
              </a:rPr>
              <a:t>pénzügyek,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 Unicode MS"/>
              </a:rPr>
              <a:t>üzleti gazdaságtan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b48f"/>
                </a:solidFill>
                <a:latin typeface="Arial Unicode MS"/>
              </a:rPr>
              <a:t>Nyelv:</a:t>
            </a:r>
            <a:r>
              <a:rPr b="1" lang="hu-HU" sz="1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Arial Unicode MS"/>
              </a:rPr>
              <a:t>angol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b48f"/>
                </a:solidFill>
                <a:latin typeface="Arial Unicode MS"/>
              </a:rPr>
              <a:t>Alapítás éve:</a:t>
            </a:r>
            <a:r>
              <a:rPr b="1" lang="hu-HU" sz="1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Arial Unicode MS"/>
              </a:rPr>
              <a:t>1966. (évi 4 szám)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b48f"/>
                </a:solidFill>
                <a:latin typeface="Arial Unicode MS"/>
              </a:rPr>
              <a:t>Online elérhetősége:</a:t>
            </a:r>
            <a:r>
              <a:rPr b="0" lang="hu-HU" sz="1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hu-HU" sz="1800" spc="-1" strike="noStrike" u="sng">
                <a:solidFill>
                  <a:srgbClr val="ccccff"/>
                </a:solidFill>
                <a:uFillTx/>
                <a:latin typeface="Arial Unicode MS"/>
                <a:hlinkClick r:id="rId1"/>
              </a:rPr>
              <a:t>http://www.akademiai.com/content/119704/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828800" cy="2590560"/>
          </a:xfrm>
          <a:prstGeom prst="rect">
            <a:avLst/>
          </a:prstGeom>
          <a:ln w="38160">
            <a:solidFill>
              <a:srgbClr val="f59787"/>
            </a:solidFill>
            <a:miter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0" y="2209680"/>
            <a:ext cx="1828800" cy="2590920"/>
          </a:xfrm>
          <a:prstGeom prst="rect">
            <a:avLst/>
          </a:prstGeom>
          <a:ln w="38160">
            <a:solidFill>
              <a:srgbClr val="f59787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1D26-EA55-47CB-A312-EFED471C47D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7D13BA-9AC3-4E51-8B10-091FEC28BFF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8915400" cy="6705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364B-F9F9-4C44-A2B9-E021AC228908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95792D-4AEB-4475-B232-DE0AD5964E1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b48f"/>
                </a:solidFill>
                <a:latin typeface="Arial Unicode MS"/>
              </a:rPr>
              <a:t>COMPETITIO</a:t>
            </a:r>
            <a:r>
              <a:rPr b="0" lang="en-US" sz="36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b48f"/>
                </a:solidFill>
                <a:latin typeface="Arial Unicode MS"/>
              </a:rPr>
              <a:t>Közreadó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: Debreceni Egyetem Közgazdaság- és Gazdaságtudományi Kara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b48f"/>
                </a:solidFill>
                <a:latin typeface="Arial Unicode MS"/>
              </a:rPr>
              <a:t>A folyóirat profilja: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a karon folyó kutatási eredmények közzététele, 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doktorandusz hallgatók munkáinak tudományos publikációs lehetőséget biztosítson. 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neves külső szakemberek publikációi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nemzetközi gazdasági témák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elméleti közgazdaságtan 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b48f"/>
                </a:solidFill>
                <a:latin typeface="Arial Unicode MS"/>
              </a:rPr>
              <a:t>Nyelv: 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 magyar, angol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b48f"/>
                </a:solidFill>
                <a:latin typeface="Arial Unicode MS"/>
              </a:rPr>
              <a:t>Alapítás éve: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 2002. (évi 2 szám)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b48f"/>
                </a:solidFill>
                <a:latin typeface="Arial Unicode MS"/>
              </a:rPr>
              <a:t>Online elérhetősége: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http://www.econ.unideb.hu/tudomany/competitio-folyoirat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8B24-09A6-478D-ABAC-E607BD85EC1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6B7E12-3B3A-4567-9742-A8ED19349BC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b48f"/>
                </a:solidFill>
                <a:latin typeface="Arial Unicode MS"/>
              </a:rPr>
              <a:t>FEJLESZTÉS ÉS FINANSZÍROZÁS=</a:t>
            </a:r>
            <a:br>
              <a:rPr sz="3200"/>
            </a:br>
            <a:r>
              <a:rPr b="1" lang="en-US" sz="3200" spc="-1" strike="noStrike">
                <a:solidFill>
                  <a:srgbClr val="ffb48f"/>
                </a:solidFill>
                <a:latin typeface="Arial Unicode MS"/>
              </a:rPr>
              <a:t> </a:t>
            </a:r>
            <a:r>
              <a:rPr b="1" lang="en-US" sz="3200" spc="-1" strike="noStrike">
                <a:solidFill>
                  <a:srgbClr val="ffb48f"/>
                </a:solidFill>
                <a:latin typeface="Arial Unicode MS"/>
              </a:rPr>
              <a:t>DEVELOPMENT AND FINANCE</a:t>
            </a:r>
            <a:br>
              <a:rPr sz="3200"/>
            </a:br>
            <a:r>
              <a:rPr b="1" lang="en-US" sz="3200" spc="-1" strike="noStrike">
                <a:solidFill>
                  <a:srgbClr val="ffb48f"/>
                </a:solidFill>
                <a:latin typeface="Arial Unicode MS"/>
              </a:rPr>
              <a:t>(angol és magyar nyelven is megjelenik)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8686800" cy="495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7E97-72A2-4A45-ADA7-63C3E10D3FBB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20E6D9-97DD-4ED0-9A40-24B04FFFC1D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b48f"/>
                </a:solidFill>
                <a:latin typeface="Arial Unicode MS"/>
              </a:rPr>
              <a:t>FEJLESZTÉS ÉS FINANSZÍROZÁS=</a:t>
            </a:r>
            <a:br>
              <a:rPr sz="2800"/>
            </a:br>
            <a:r>
              <a:rPr b="1" lang="en-US" sz="2800" spc="-1" strike="noStrike">
                <a:solidFill>
                  <a:srgbClr val="ffb48f"/>
                </a:solidFill>
                <a:latin typeface="Arial Unicode MS"/>
              </a:rPr>
              <a:t> </a:t>
            </a:r>
            <a:r>
              <a:rPr b="1" lang="en-US" sz="2800" spc="-1" strike="noStrike">
                <a:solidFill>
                  <a:srgbClr val="ffb48f"/>
                </a:solidFill>
                <a:latin typeface="Arial Unicode MS"/>
              </a:rPr>
              <a:t>DEVELOPMENT AND FINANCE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b48f"/>
                </a:solidFill>
                <a:latin typeface="Arial Unicode MS"/>
              </a:rPr>
              <a:t>A folyóirat profilja:</a:t>
            </a:r>
            <a:r>
              <a:rPr b="0" lang="hu-HU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Unicode MS"/>
              </a:rPr>
              <a:t>XXI. század elején felmerülő gazdasági kérdések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Unicode MS"/>
              </a:rPr>
              <a:t>tudományos és gyakorlati jelentőségű gazdasági-társadalmi kérdések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Unicode MS"/>
              </a:rPr>
              <a:t>gazdasági- és pénzügyi folyamatok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Unicode MS"/>
              </a:rPr>
              <a:t>makro- és mikrogazdasági elemzések 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Unicode MS"/>
              </a:rPr>
              <a:t>"economic review„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Unicode MS"/>
              </a:rPr>
              <a:t>"business review"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b48f"/>
                </a:solidFill>
                <a:latin typeface="Arial Unicode MS"/>
              </a:rPr>
              <a:t>Nyelv:</a:t>
            </a:r>
            <a:r>
              <a:rPr b="0" lang="hu-HU" sz="2800" spc="-1" strike="noStrike">
                <a:solidFill>
                  <a:srgbClr val="ffffff"/>
                </a:solidFill>
                <a:latin typeface="Arial Unicode MS"/>
              </a:rPr>
              <a:t> magyar, angol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b48f"/>
                </a:solidFill>
                <a:latin typeface="Arial Unicode MS"/>
              </a:rPr>
              <a:t>Alapítás éve:</a:t>
            </a:r>
            <a:r>
              <a:rPr b="0" lang="hu-HU" sz="2800" spc="-1" strike="noStrike">
                <a:solidFill>
                  <a:srgbClr val="ffffff"/>
                </a:solidFill>
                <a:latin typeface="Arial Unicode MS"/>
              </a:rPr>
              <a:t> 2003. (évi 4 szám)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b48f"/>
                </a:solidFill>
                <a:latin typeface="Arial Unicode MS"/>
              </a:rPr>
              <a:t>Online elérhetősége:</a:t>
            </a:r>
            <a:r>
              <a:rPr b="0" lang="hu-HU" sz="3200" spc="-1" strike="noStrike">
                <a:solidFill>
                  <a:srgbClr val="ffffff"/>
                </a:solidFill>
                <a:latin typeface="Arial Unicode MS"/>
              </a:rPr>
              <a:t>http://www.ffdf.hu/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A4BD-1A3D-4009-9D89-9A232E6A10D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2A85CD-0F7C-4FA6-9716-FB0A572D341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b48f"/>
                </a:solidFill>
                <a:latin typeface="Arial Unicode MS"/>
              </a:rPr>
              <a:t>KÖZGAZDASÁGI SZEMLE</a:t>
            </a:r>
            <a:r>
              <a:rPr b="0" lang="en-US" sz="36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057400" y="1066680"/>
            <a:ext cx="68580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b48f"/>
                </a:solidFill>
                <a:latin typeface="Arial Unicode MS"/>
              </a:rPr>
              <a:t>Közreadó:</a:t>
            </a:r>
            <a:r>
              <a:rPr b="0" lang="hu-HU" sz="2800" spc="-1" strike="noStrike">
                <a:solidFill>
                  <a:srgbClr val="ffffff"/>
                </a:solidFill>
                <a:latin typeface="Arial Unicode MS"/>
              </a:rPr>
              <a:t> Közgazdasági Szemle Alapítvány 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b48f"/>
                </a:solidFill>
                <a:latin typeface="Arial Unicode MS"/>
              </a:rPr>
              <a:t>Támogatók:</a:t>
            </a:r>
            <a:r>
              <a:rPr b="0" lang="hu-HU" sz="2800" spc="-1" strike="noStrike">
                <a:solidFill>
                  <a:srgbClr val="ffffff"/>
                </a:solidFill>
                <a:latin typeface="Arial Unicode MS"/>
              </a:rPr>
              <a:t> MTA, MNB, K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&amp;</a:t>
            </a:r>
            <a:r>
              <a:rPr b="0" lang="hu-HU" sz="2800" spc="-1" strike="noStrike">
                <a:solidFill>
                  <a:srgbClr val="ffffff"/>
                </a:solidFill>
                <a:latin typeface="Arial Unicode MS"/>
              </a:rPr>
              <a:t>H Bank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b48f"/>
                </a:solidFill>
                <a:latin typeface="Arial Unicode MS"/>
              </a:rPr>
              <a:t>A folyóirat profilja:</a:t>
            </a:r>
            <a:r>
              <a:rPr b="0" lang="hu-HU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Unicode MS"/>
              </a:rPr>
              <a:t>elsősorban elméleti folyóirat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Unicode MS"/>
              </a:rPr>
              <a:t>tudomány fejlődéséhez való hozzájárulás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Unicode MS"/>
              </a:rPr>
              <a:t>a szellemi függetlenség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Unicode MS"/>
              </a:rPr>
              <a:t>a valóság tanulmányozása 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Unicode MS"/>
              </a:rPr>
              <a:t>az egymásnak ellentmondó nézetek ütköztetése</a:t>
            </a:r>
            <a:r>
              <a:rPr b="0" lang="hu-HU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b48f"/>
                </a:solidFill>
                <a:latin typeface="Arial Unicode MS"/>
              </a:rPr>
              <a:t>Nyelv:</a:t>
            </a:r>
            <a:r>
              <a:rPr b="0" lang="hu-HU" sz="2800" spc="-1" strike="noStrike">
                <a:solidFill>
                  <a:srgbClr val="ffffff"/>
                </a:solidFill>
                <a:latin typeface="Arial Unicode MS"/>
              </a:rPr>
              <a:t> magyar, angol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b48f"/>
                </a:solidFill>
                <a:latin typeface="Arial Unicode MS"/>
              </a:rPr>
              <a:t>Alapítás éve:</a:t>
            </a:r>
            <a:r>
              <a:rPr b="0" lang="hu-HU" sz="2800" spc="-1" strike="noStrike">
                <a:solidFill>
                  <a:srgbClr val="ffffff"/>
                </a:solidFill>
                <a:latin typeface="Arial Unicode MS"/>
              </a:rPr>
              <a:t> 1876. (évente 11 szám)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b48f"/>
                </a:solidFill>
                <a:latin typeface="Arial Unicode MS"/>
              </a:rPr>
              <a:t>Online elérhetősége:</a:t>
            </a:r>
            <a:r>
              <a:rPr b="0" lang="hu-HU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Arial Unicode MS"/>
              </a:rPr>
              <a:t>http://www.kszemle.hu/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103" name="" descr="Közgazdasági Szemle legfrissebb szá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33520"/>
            <a:ext cx="1571760" cy="22478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Közgazdasági Szemle legfrissebb szá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1828800"/>
            <a:ext cx="1571760" cy="22478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Közgazdasági Szemle legfrissebb szám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33520" y="3657600"/>
            <a:ext cx="1571400" cy="2247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DCDA-F115-4C39-A709-5992A04742D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7D9A01-8D23-4CD4-A154-69E5E410613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76720" y="-3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b48f"/>
                </a:solidFill>
                <a:latin typeface="Arial Unicode MS"/>
              </a:rPr>
              <a:t>KÜLGAZDASÁG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133360" y="1447920"/>
            <a:ext cx="70102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8082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fb48f"/>
                </a:solidFill>
                <a:latin typeface="Arial Unicode MS"/>
              </a:rPr>
              <a:t>Közreadó</a:t>
            </a:r>
            <a:r>
              <a:rPr b="0" lang="hu-HU" sz="1900" spc="-1" strike="noStrike">
                <a:solidFill>
                  <a:srgbClr val="ffffff"/>
                </a:solidFill>
                <a:latin typeface="Arial Unicode MS"/>
              </a:rPr>
              <a:t>: Konjunktúra Kutatási Alapítvány </a:t>
            </a:r>
            <a:endParaRPr b="0" lang="en-US" sz="1900" spc="-1" strike="noStrike">
              <a:solidFill>
                <a:srgbClr val="ffffff"/>
              </a:solidFill>
              <a:latin typeface="Arial Unicode MS"/>
            </a:endParaRPr>
          </a:p>
          <a:p>
            <a:pPr lvl="1" marL="8082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fb48f"/>
                </a:solidFill>
                <a:latin typeface="Arial Unicode MS"/>
              </a:rPr>
              <a:t>A folyóirat profilja</a:t>
            </a:r>
            <a:r>
              <a:rPr b="0" lang="hu-HU" sz="1900" spc="-1" strike="noStrike">
                <a:solidFill>
                  <a:srgbClr val="ffb48f"/>
                </a:solidFill>
                <a:latin typeface="Arial Unicode MS"/>
              </a:rPr>
              <a:t>:</a:t>
            </a:r>
            <a:endParaRPr b="0" lang="en-US" sz="1900" spc="-1" strike="noStrike">
              <a:solidFill>
                <a:srgbClr val="ffffff"/>
              </a:solidFill>
              <a:latin typeface="Arial Unicode MS"/>
            </a:endParaRPr>
          </a:p>
          <a:p>
            <a:pPr lvl="2" marL="12384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ffffff"/>
                </a:solidFill>
                <a:latin typeface="Arial Unicode MS"/>
              </a:rPr>
              <a:t>a közgazdaságtudomány és más társadalomtudományi diszciplínák (szociológia, politikatudomány, nemzetközi kapcsolatok) </a:t>
            </a:r>
            <a:endParaRPr b="0" lang="en-US" sz="1900" spc="-1" strike="noStrike">
              <a:solidFill>
                <a:srgbClr val="ffffff"/>
              </a:solidFill>
              <a:latin typeface="Arial Unicode MS"/>
            </a:endParaRPr>
          </a:p>
          <a:p>
            <a:pPr lvl="2" marL="12384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ffffff"/>
                </a:solidFill>
                <a:latin typeface="Arial Unicode MS"/>
              </a:rPr>
              <a:t>alkalmazott közgazdaságtan, </a:t>
            </a:r>
            <a:endParaRPr b="0" lang="en-US" sz="1900" spc="-1" strike="noStrike">
              <a:solidFill>
                <a:srgbClr val="ffffff"/>
              </a:solidFill>
              <a:latin typeface="Arial Unicode MS"/>
            </a:endParaRPr>
          </a:p>
          <a:p>
            <a:pPr lvl="2" marL="12384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ffffff"/>
                </a:solidFill>
                <a:latin typeface="Arial Unicode MS"/>
              </a:rPr>
              <a:t>gazdaságpolitika, </a:t>
            </a:r>
            <a:endParaRPr b="0" lang="en-US" sz="1900" spc="-1" strike="noStrike">
              <a:solidFill>
                <a:srgbClr val="ffffff"/>
              </a:solidFill>
              <a:latin typeface="Arial Unicode MS"/>
            </a:endParaRPr>
          </a:p>
          <a:p>
            <a:pPr lvl="2" marL="12384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ffffff"/>
                </a:solidFill>
                <a:latin typeface="Arial Unicode MS"/>
              </a:rPr>
              <a:t>kelet-közép-európai gazdasági és társadalmi átalakulás,</a:t>
            </a:r>
            <a:endParaRPr b="0" lang="en-US" sz="1900" spc="-1" strike="noStrike">
              <a:solidFill>
                <a:srgbClr val="ffffff"/>
              </a:solidFill>
              <a:latin typeface="Arial Unicode MS"/>
            </a:endParaRPr>
          </a:p>
          <a:p>
            <a:pPr lvl="2" marL="12384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ffffff"/>
                </a:solidFill>
                <a:latin typeface="Arial Unicode MS"/>
              </a:rPr>
              <a:t>globalizáció és transznacionalizáció, </a:t>
            </a:r>
            <a:endParaRPr b="0" lang="en-US" sz="1900" spc="-1" strike="noStrike">
              <a:solidFill>
                <a:srgbClr val="ffffff"/>
              </a:solidFill>
              <a:latin typeface="Arial Unicode MS"/>
            </a:endParaRPr>
          </a:p>
          <a:p>
            <a:pPr lvl="2" marL="12384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ffffff"/>
                </a:solidFill>
                <a:latin typeface="Arial Unicode MS"/>
              </a:rPr>
              <a:t>nemzetközi és regionális összehasonlító tanulmányok</a:t>
            </a:r>
            <a:endParaRPr b="0" lang="en-US" sz="1900" spc="-1" strike="noStrike">
              <a:solidFill>
                <a:srgbClr val="ffffff"/>
              </a:solidFill>
              <a:latin typeface="Arial Unicode MS"/>
            </a:endParaRPr>
          </a:p>
          <a:p>
            <a:pPr lvl="2" marL="12384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ffffff"/>
                </a:solidFill>
                <a:latin typeface="Arial Unicode MS"/>
              </a:rPr>
              <a:t>a lap </a:t>
            </a:r>
            <a:r>
              <a:rPr b="1" lang="hu-HU" sz="1900" spc="-1" strike="noStrike">
                <a:solidFill>
                  <a:srgbClr val="ffb48f"/>
                </a:solidFill>
                <a:latin typeface="Arial Unicode MS"/>
              </a:rPr>
              <a:t>Jogi Melléklete</a:t>
            </a:r>
            <a:r>
              <a:rPr b="0" lang="hu-HU" sz="1900" spc="-1" strike="noStrike">
                <a:solidFill>
                  <a:srgbClr val="ffffff"/>
                </a:solidFill>
                <a:latin typeface="Arial Unicode MS"/>
              </a:rPr>
              <a:t> a hazai és külföldi gazdasági jog tudományos aspektusaival, változásaival, valamint új rendelkezéseivel foglalkozik.</a:t>
            </a:r>
            <a:endParaRPr b="0" lang="en-US" sz="1900" spc="-1" strike="noStrike">
              <a:solidFill>
                <a:srgbClr val="ffffff"/>
              </a:solidFill>
              <a:latin typeface="Arial Unicode MS"/>
            </a:endParaRPr>
          </a:p>
          <a:p>
            <a:pPr lvl="1" marL="8082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fb48f"/>
                </a:solidFill>
                <a:latin typeface="Arial Unicode MS"/>
              </a:rPr>
              <a:t>Nyelv:</a:t>
            </a:r>
            <a:r>
              <a:rPr b="0" lang="hu-HU" sz="1900" spc="-1" strike="noStrike">
                <a:solidFill>
                  <a:srgbClr val="ffffff"/>
                </a:solidFill>
                <a:latin typeface="Arial Unicode MS"/>
              </a:rPr>
              <a:t> magyar</a:t>
            </a:r>
            <a:endParaRPr b="0" lang="en-US" sz="1900" spc="-1" strike="noStrike">
              <a:solidFill>
                <a:srgbClr val="ffffff"/>
              </a:solidFill>
              <a:latin typeface="Arial Unicode MS"/>
            </a:endParaRPr>
          </a:p>
          <a:p>
            <a:pPr lvl="1" marL="8082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fb48f"/>
                </a:solidFill>
                <a:latin typeface="Arial Unicode MS"/>
              </a:rPr>
              <a:t>Alapítás éve:</a:t>
            </a:r>
            <a:r>
              <a:rPr b="0" lang="hu-HU" sz="1900" spc="-1" strike="noStrike">
                <a:solidFill>
                  <a:srgbClr val="ffffff"/>
                </a:solidFill>
                <a:latin typeface="Arial Unicode MS"/>
              </a:rPr>
              <a:t> 1972. (évente 6 szám)</a:t>
            </a:r>
            <a:endParaRPr b="0" lang="en-US" sz="1900" spc="-1" strike="noStrike">
              <a:solidFill>
                <a:srgbClr val="ffffff"/>
              </a:solidFill>
              <a:latin typeface="Arial Unicode MS"/>
            </a:endParaRPr>
          </a:p>
          <a:p>
            <a:pPr lvl="1" marL="8082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fb48f"/>
                </a:solidFill>
                <a:latin typeface="Arial Unicode MS"/>
              </a:rPr>
              <a:t>Online elérhetősége</a:t>
            </a:r>
            <a:r>
              <a:rPr b="1" lang="hu-HU" sz="1900" spc="-1" strike="noStrike">
                <a:solidFill>
                  <a:srgbClr val="ffffff"/>
                </a:solidFill>
                <a:latin typeface="Arial Unicode MS"/>
              </a:rPr>
              <a:t>:</a:t>
            </a:r>
            <a:r>
              <a:rPr b="0" lang="hu-HU" sz="1900" spc="-1" strike="noStrike">
                <a:solidFill>
                  <a:srgbClr val="ffffff"/>
                </a:solidFill>
                <a:latin typeface="Arial Unicode MS"/>
              </a:rPr>
              <a:t> http://www.kopintalapitvany.hu/05.html#03</a:t>
            </a:r>
            <a:endParaRPr b="0" lang="en-US" sz="1900" spc="-1" strike="noStrike">
              <a:solidFill>
                <a:srgbClr val="ffffff"/>
              </a:solidFill>
              <a:latin typeface="Arial Unicode MS"/>
            </a:endParaRPr>
          </a:p>
          <a:p>
            <a:pPr lvl="1" marL="8082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81240" cy="314316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28600" y="762120"/>
            <a:ext cx="2181240" cy="314316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57200" y="1600200"/>
            <a:ext cx="2181240" cy="314316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8BC4-D004-4F13-BC1D-6E81F1DAD6B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D5A583-5053-4165-ACDA-090B6C6D9E5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ipos Anna Magdolna</cp:lastModifiedBy>
  <dcterms:modified xsi:type="dcterms:W3CDTF">2013-02-19T10:29:34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